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89E-1A00-4DAD-8328-2A922775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2E1-C0B1-4568-9025-C52D4761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B01-41CC-404D-8B7B-5E2EF1C3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A37-2E6D-4A0A-A225-ECEDFDDD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907-0229-4C19-88A7-CAB8356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946-B59B-45BC-A630-8F47F201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4B2-D876-4529-A298-308CDAD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214-30B9-4308-ADB8-BEB08BDD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3DB-FC49-470A-A87D-EC8CEFEF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31E-F8FF-4929-9382-17C11DDF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C6A-86F2-4A58-9DAC-57E143F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03B-B2A4-4009-AC4F-562C0285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E58D-F51F-4F35-9928-39E611E46F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карбоновых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карбоновых 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первичных спиртов и альдегидов (кислородом на катализаторе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      Промышленный синтез муравьиной кисл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талитическое окисление ме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3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2H–COOH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)     нагреванием оксида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идроксидом нат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 + NaOH  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Р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;200°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H–COONa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H–CO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      Промышленный синтез уксусной кисл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талитическое окисление бут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5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4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b)     нагреванием смеси оксида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и метанола на катализаторе под давл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      Ароматические кислоты синтезируют окислением гомологов бензол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 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 6KM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9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5 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6Mn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14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     Гидролиз функциональных производных (сложных эфиров, ангидридов, галогенангидридов, амид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ксильная группа содержит две функциональные группы - карбонил &gt;С=О и гидроксил -OH, взаимно влияющие друг на дру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тные свойства карбоновых кислот обусловлены смещением электронной плотности к карбонильному кислороду и вызванной этим дополнительной (по сравнению со спиртами) поляризации связи О–Н.. В водном растворе карбоновые кислоты диссоциируют на ион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карбоновых кислот в водном растворе невел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овые кислоты обладают свойствами, характерными для минеральных кислот. Они реагируют с активными металлами, основными оксидами, основаниями, солями слабых кисло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Mg ® 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СaO ® 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–COOH + NaOH ® H–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® 2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H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®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овые кислоты слабее многих сильных минеральных кислот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т.д.) и поэтому вытесняются ими из солей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Na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конц.)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H + NaH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функциональных производных карбоновых кисл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Образование сложных эфиров R'–COOR" (реакция этерификации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я образования сложного эфира из кислоты и спирта называется реакцией этерифик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ethe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фир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ри воздействии водоотнимающих реагентов в результате межмолекулярной     дегидратации образуются ангидри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 –OH + H–O– 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(P2O5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 –O– 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при обработке карбоновых кислот пятихлористым фосфором получают 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рангидри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 Галогенирование. При действии галогенов (в присутствии красного фосфора) образуютс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алогензамещённые кислоты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8:28:53Z</dcterms:created>
  <dc:creator>Андрей</dc:creator>
  <dc:description/>
  <dc:language>en-US</dc:language>
  <cp:lastModifiedBy>Андрей</cp:lastModifiedBy>
  <dcterms:modified xsi:type="dcterms:W3CDTF">2020-08-27T08:33:39Z</dcterms:modified>
  <cp:revision>4</cp:revision>
  <dc:subject/>
  <dc:title>Свойства карбоновых кислот</dc:title>
</cp:coreProperties>
</file>